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DFF-5C93-4389-8E76-A801C017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371-8F41-4103-93E4-D744E267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F58-8421-44A9-A774-4908068A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A60-4BAA-4918-9281-998E8050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521-785F-491C-8244-D28788E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227-0385-4289-97B0-E346BE0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A3D-821E-421C-98ED-BEB8F4F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878-3780-40A9-B02E-1B180839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960-081D-4FF9-A062-249ECFF7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3BD-726B-4A2B-8B9F-E23416F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5AA-32C7-45C7-A00E-48E577E6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22A-318F-4E04-BE3F-8D2AAC5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6486-F580-4DF5-97FE-233F6ECC8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MORE F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416556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7" descr="'fit'.jpg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5  billion years ago – first life appeared on Earth – simple 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45 million years ago – sponges, jellyfish, and algae appeared followed by worms, primitive arthropods, 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8 million years ago – mammals appeared on the Earth as well 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4 million years ago – radiation of mammals and the 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that the line of descent from an individual with a specific trait will not di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pass on your ge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sperm_egg_nl_fertilization.jpg"/>
          <p:cNvPicPr/>
          <p:nvPr/>
        </p:nvPicPr>
        <p:blipFill>
          <a:blip r:embed="rId1"/>
          <a:stretch/>
        </p:blipFill>
        <p:spPr>
          <a:xfrm>
            <a:off x="5791320" y="2819520"/>
            <a:ext cx="31240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dna-sperm-33410.jpg"/>
          <p:cNvPicPr/>
          <p:nvPr/>
        </p:nvPicPr>
        <p:blipFill>
          <a:blip r:embed="rId2"/>
          <a:stretch/>
        </p:blipFill>
        <p:spPr>
          <a:xfrm>
            <a:off x="1066680" y="4724280"/>
            <a:ext cx="3657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O PASSED THEIR GENES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3566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7" descr="'fit'.jpg"/>
          <p:cNvPicPr/>
          <p:nvPr/>
        </p:nvPicPr>
        <p:blipFill>
          <a:blip r:embed="rId2"/>
          <a:stretch/>
        </p:blipFill>
        <p:spPr>
          <a:xfrm>
            <a:off x="5029200" y="1676520"/>
            <a:ext cx="33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” has come to mean “strong” and “fast” becaus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o usually catches the food and runs away from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these pretty pets must fend for themselves in the wild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i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9" descr="leeping ca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3419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8" descr="white-fat-cat.jpg"/>
          <p:cNvPicPr/>
          <p:nvPr/>
        </p:nvPicPr>
        <p:blipFill>
          <a:blip r:embed="rId2"/>
          <a:stretch/>
        </p:blipFill>
        <p:spPr>
          <a:xfrm>
            <a:off x="304920" y="2666880"/>
            <a:ext cx="3959280" cy="38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ouse.jpg"/>
          <p:cNvPicPr/>
          <p:nvPr/>
        </p:nvPicPr>
        <p:blipFill>
          <a:blip r:embed="rId3"/>
          <a:stretch/>
        </p:blipFill>
        <p:spPr>
          <a:xfrm>
            <a:off x="3809880" y="2209680"/>
            <a:ext cx="2743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also must be “selected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ly must YOU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urvi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ass on your traits, but a mate must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o combine their trai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2.thedollpalace.com/images/articles/orlando-bloom-photo-orlando-bloom-2-05052007.jpg"/>
          <p:cNvPicPr/>
          <p:nvPr/>
        </p:nvPicPr>
        <p:blipFill>
          <a:blip r:embed="rId1"/>
          <a:stretch/>
        </p:blipFill>
        <p:spPr>
          <a:xfrm>
            <a:off x="990720" y="38098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oth.jpg"/>
          <p:cNvPicPr/>
          <p:nvPr/>
        </p:nvPicPr>
        <p:blipFill>
          <a:blip r:embed="rId2"/>
          <a:stretch/>
        </p:blipFill>
        <p:spPr>
          <a:xfrm>
            <a:off x="49528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Cardinal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is a female and one is a male.  Which is whi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male-cardinal.jpg"/>
          <p:cNvPicPr/>
          <p:nvPr/>
        </p:nvPicPr>
        <p:blipFill>
          <a:blip r:embed="rId1"/>
          <a:stretch/>
        </p:blipFill>
        <p:spPr>
          <a:xfrm>
            <a:off x="655560" y="2209680"/>
            <a:ext cx="376416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female cardinal.jpg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se fitness factors combine in the animal kingd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, healthy individuals tend to surviv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mor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aren’t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the 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, long, long, long, long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ection leads to the existence of certain species.  The weaklings die out and the strong ones liv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win, and others, articulated this idea when they wondered, why do certain organisms live in certain places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0:18:21Z</dcterms:created>
  <dc:creator>Joanne Lilliendahl</dc:creator>
  <dc:description/>
  <dc:language>en-US</dc:language>
  <cp:lastModifiedBy>Joanne Lilliendahl</cp:lastModifiedBy>
  <dcterms:modified xsi:type="dcterms:W3CDTF">2008-05-29T01:47:38Z</dcterms:modified>
  <cp:revision>12</cp:revision>
  <dc:subject/>
  <dc:title>Evolution</dc:title>
</cp:coreProperties>
</file>